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82F-9816-4BE4-8F8B-8F67D0E8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24F-4362-4F72-9385-1A904785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E39F4-8DEA-40EF-9C05-8759FFCD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DC79E-1660-483A-9D46-6A77C40E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6E201-EED5-4CB5-9578-5D04F31D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4EA76-BA07-4C73-823A-91830A10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318D4-B117-4320-895B-BCE246B3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80A6C-00D8-49E2-9716-B1C8B5F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F2A51-C063-4B92-A7A5-EF67F43F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840F6-7D6B-4F1C-A310-9D0C0B1B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B1EA5-454B-4A34-BB07-91C61F8A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04A4D-EB7D-4742-BBF2-47B8D664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750-F426-46E4-9706-437CE1AC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62210-C4E5-44B5-8703-2E033021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508D3-F240-4947-B3B0-C0F1B0E2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A680A-403C-4D10-85DE-26A87CBD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B76DE-0CA5-4991-A382-D78E0398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9B7BE-2619-420E-9D1B-5F183CEC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4A488-113D-40CC-B431-A0B4EE20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2F534-62F3-4BEE-AF2A-17054017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10D45-F8DB-4995-98C3-E2B25425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C7145-D8D0-49D1-9947-EA60ED61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AC270-9A2F-4987-862A-D498CD10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3B3-A433-4CDA-8103-7B54EA85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3F01E-BC61-4C05-99CA-AD49853E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94B15-1997-48D4-9A3B-BB7C2B8C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A45D3-7CBB-4F54-96E8-DF335A48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89316-AD59-40AF-9B0E-EED48D40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EBBC6-646F-4F1D-A6DD-2672B2FF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A5A9A-5BF8-4CDA-8BC6-1870D161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D651E-F339-4CFB-9685-1D0AFDA7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47CE9-65E0-420E-ACE5-C11DD95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D526C-1F1E-4A2E-9664-B1B1AFD4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B7D99-A450-4BEB-B7A6-A192B29F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3582-3123-444F-8FE2-180C9262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6107A-5ADB-4322-93C1-2BDEBFA9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C030F-EFCD-45ED-9B35-40E6C3D2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CD6F4-7B43-4875-97CB-CD59F58E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B3286-5229-47B5-A3F2-BD4C896C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AF743-E77E-4C3E-8798-F54C6662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05764-E95D-48D7-90E6-A344ADA8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3679E-0479-4984-8490-AA472AAF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2DB13-AAA7-4B91-8AF6-E2285E38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7D8D5-F038-4E6D-BA77-ACB1A672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0A326-6156-410A-B8A4-173A4D8E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3F5B-8AD2-4237-A1B0-CF98D6B0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BB2F6-6D94-49EE-AF0F-AB94137C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17FE2-DCFB-48CF-A6E3-12C39A4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8F3EE-AD74-4633-9B13-5F385153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CFDA7-867C-48FC-B5E2-EF54D0F6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CE2D0-19E0-4401-A4A5-FC5CD6C4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FFEA-EC90-4BF9-9017-2711B16C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5669-805E-4DB5-9012-3ACFC61E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272A-8205-4565-AB98-AE526D98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BBF2-3E62-44BF-A3BB-7804F81B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1E8B-376D-4D95-AE6E-C4BE07F6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BD9-B99A-4732-AB17-7BE53182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E76-DD18-45D1-B2FA-09532FE4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F935-4943-4EF6-A68D-D8F5D36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480B-B57E-4126-922C-4FE30C93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A69B-7C08-4587-8E78-488DC553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6D50-2902-42DC-AA69-4D35DF34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DA77-EF4D-45B6-A402-0B7627EA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DC94-CC94-449E-9D3D-7405110B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941F-5C86-47B7-854C-C3836668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52BC-C7E7-4865-95D3-2B4D9A86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37A8-7470-40E9-A823-E446D250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57E-6392-47A1-9CFB-F6EDC960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2CB1-65A0-4F6D-9F69-A191E362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C607F-0B55-4C0A-BA95-006F05E4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4BEE-E8CE-4A63-AE21-14C8E79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734FF-5FDF-490C-BF90-FE064E3C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881B-87F9-4291-B791-7829B74F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3D80-43AB-43E5-8A52-A0C55344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B3E2-E292-4E6F-A228-E0BE2B2C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A3C6-9B8C-4B25-A2C9-0E2D7DAA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8F955-2EB4-4FA9-A92A-4AF9E3AD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F7C5-C1A0-462E-B889-B88ADD45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3B0-2D39-4545-A220-080E5C5C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98FC0-ED75-4F1C-BA84-93CDB45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09DD6-8F79-4FA8-984B-0A90486E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8C5A-8BB4-4840-BC01-1A7D3AE0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A8A2-68FA-4298-B29E-25E922CA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0A25-8768-430C-83E5-5C4F0038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37AB3-645B-4AF9-892A-6C9E2743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CEBC-3244-432F-A1C9-2C3FBE6C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705A0-7D6C-49D5-8EEF-57F95812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8B06-A4CD-445A-860B-B9E22FD1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9452E-F472-4BE8-8CD6-CF3FC351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09D-F334-4EDA-8910-F5CBA91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7FA7-1522-478F-9E49-F920FE2D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11AF8-7C71-4130-B6AF-8127CA25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04716-23E8-4784-B9E8-500BC300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7234-9856-4954-8BDA-FB4D810A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A1241-F1BE-42F5-A2E6-A64233F4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23E4C-E7D4-43B8-93E1-DC7EEB18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B6BE-4215-4EF8-B2BA-6BAA08E1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14606-FDF5-4B6B-A4C6-4F0A511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5F537-E6A9-4962-9A5D-2EAE3656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5C2CB-B3DA-4111-89F2-0B739B52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129-44E1-4804-A11D-4787380A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B582D-900F-46E6-A780-C476339F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EE365-B569-44AB-9A16-E3F24664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2474F-0ECC-4779-8DAC-E5196D31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9E118-04E0-4897-9467-35A2984E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10697-BE9D-47DC-851C-31AF0ED2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3D6C9-4FC4-431D-A31D-447C96E8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07FCA-C901-4C68-9654-B0883833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38D9D-8194-4109-9434-B219376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671E-7301-468A-8443-5417DE1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91D3E-30A2-4868-9BEB-CAEE648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0E3-0A62-4985-B4F9-BA41E8D5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8C513-FC77-48C3-87A2-A6D61909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637C4-D05C-444D-9CFB-9D29E61B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3D160-037A-4E79-BE8E-A3BF1878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63F05-62BE-40C1-86D2-7A1B830D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4408A-B20C-446A-995C-487D681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99BB1-1F66-4FFA-8B18-D9F3ABE8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CB43B-C91F-4FDC-82D8-6E924F18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79346-765C-431F-8C58-C5643EE5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406A8-0C1B-48F2-B7C6-A401E11C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28AEF-3FC1-4137-B285-590C61F0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C68-1777-4364-9748-0235D171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A39A0-F7DB-481A-9593-88DFA6D1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4781E-BC39-4D4A-B512-C5D866E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2AE0-5D7F-4D80-A8D3-BF4B4848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1734A-0A3C-4D25-9064-D3528193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04E41-D7B4-48AC-AB01-8162ADD1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E3B19-1A76-4791-A193-BF23103D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B7ECE-7BEF-4D40-B97B-CA22D156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928DF-2021-4E1D-A7A2-7164564A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CD7F1-F908-41CA-A29F-49A4D4DF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C8953-1EC3-4628-B9B4-A38F781D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1F0-4A21-4428-B848-37CE6910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E1B0E-F61C-47FF-96FA-06C27EF3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05377-1D7E-4B67-9BE4-98A61A5A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EE850-9020-4028-9A6E-177511C8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2B890-9B83-4EBF-A875-82EF4D6A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CCA9F-EF02-4E46-9879-F185A18F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CADA3-B378-495E-BACD-929A744B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910B4-4B63-484B-94C0-647B73C0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9ABEB-2C93-49EB-82C7-D44EB0BA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66E71-9C6A-4F5C-BBE1-08EA9C8D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602CF-A792-46E3-8DDB-B1C28CE3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32C8-DBA4-454A-9CEC-C4E8E54B11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8783-A979-4320-BED0-3E7F25399F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9A1A-AA67-4054-933A-68A9831220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5C70-3C3C-4EA3-9785-7514194AB1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9B58-ADCD-4338-A573-5FC5DAC519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B193-5D25-43A6-8D2D-17156D4E04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EA11-2C83-4F8F-B212-8806330AED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54DC-6826-4997-9C31-E27F82406C2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2486-0F0F-4AA3-AF77-D4845CF234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C95C-3565-4658-9D05-509F0CAECB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45AC-BC78-4BA5-98A4-D2CB3A1F74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34C7-89C8-4DF5-B2DB-4EF603D731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6 Poďte blízki, vzdialen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ďte blízki, vzdial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om, vinou znav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ožej zvesti zmier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tla nádej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ísme je zdroj múdr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ú Pán dá v hoj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m, čo chcú večne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u jeho veleb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jto knihy blahá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die k Ceste všetkých cie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mdloby, žiaľu, tráp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radosti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ácne Božie Slovo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nou hviezdou nád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žiare ktorej smieme zr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vé nebo, rajský svet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12:40Z</dcterms:modified>
  <cp:revision>21</cp:revision>
  <dc:subject/>
  <dc:title>Je veľký náš Pán, on slávy je Kráľ Nech do všetkých strán  spev vrúcnych znie chvál.</dc:title>
</cp:coreProperties>
</file>